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9F9-B2A5-416A-A7E2-62CF349A9C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FA4-82C4-4DA4-8FDA-E9482BA05D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7A2-28EA-442A-A125-BFD56B6F12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447-B24E-47D2-BF63-92178C260F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F944-641B-4019-8091-188E56AF0B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199D-E0BA-438C-986D-52E11D1CAD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22E-8D92-4BE0-81C5-16AA83D105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8D8C-E05F-438F-848C-6367E0CD31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516-3D53-442A-8884-FE9EC60E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F8C-793A-4CF9-B0D9-4FBDF4F1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1E4-01CA-441E-B44C-00E5D2FB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51B-FBA8-4AA5-941D-D46AA412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F21-F7BF-42EB-9DA4-083435D5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FB0-844C-41D9-8EAD-3D24AE6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7B8-3C85-4060-9E1E-D95ED28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6DD-7AAA-49A7-B293-2DFE743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898-DFAB-46B5-861F-1C4B41BB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C1D-BFEE-417F-81A5-EF50F7D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9D5-DBD1-41AC-AB43-CFFD9AB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A5E-D79E-4EBA-A8EF-1FE48FE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D47-A826-4879-A627-C6F1CB56A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ICE-BASED SYSTEM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TINDWA, DANNY COYNE, VICTOR AFARI-SEFA, BAKARI KAONEKA, GEORGE MHINA, SILVEST SAMALI, JONNE RODEN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Vegetable production constra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ccess (e.g. quality s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e production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164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ds (incl. wild r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(incl. birds)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vest &amp; post harvest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big five product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205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mmunity-based seed and seedling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v’s, good quality and clean seeds, healthy seedlings, promotion of good planting methods (e.g. timing, land prepar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crop manag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ing of operations, cropping sequences (rotations), labour-saving technologies,  small-mech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ter-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UE-enhancing technologies (e.g. drip irrigation, AWD/aerobic rice systems), water harvesting/ water conservation (e.g. bunding, ridg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arvest and post-harvest hand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mechanization (e.g. harvesters, threshers), improved packaging, grading and standard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ehouse receipt systems, farmer organizations to improve market access, farmer access to dedicated markets (avoiding trader’s and elevated prices), food quality and safety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3"/>
          <p:cNvSpPr/>
          <p:nvPr/>
        </p:nvSpPr>
        <p:spPr>
          <a:xfrm>
            <a:off x="-76320" y="7621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chnologies addressing major constraints using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3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combination of technologies would potentially fit in this system (bearing constraints in min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current situation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-an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mpact study, incl. biophysical constraint assessment: yield gap, diagnostic and base-line survey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fricaRice already developed surveys for th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Multi-Stakeholder Platform (MSP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s for stakeholder/farmer meetings to assess resources, constraints, needs and opportunities in terms of intensification &amp; diversific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… along the value chain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sensitization and training/awarenes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nstrations and evaluation of seed and seedling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-based demonstration trials on rice-vegetable(-livestock) integrated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 management demo trial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zation: introduction, evalu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and adapt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variety evaluation (rice and vegetables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evaluating improved post harvest handling practices (e.g. packaging, processing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es and farmer evaluation exercises (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farmer groups and dedicated market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’s: IITA, AfricaRice, AVRDC, IL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DO’s of Kilombero and Mvom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TI-Teng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RIN and Dakawa - 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COLLABO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FAK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ro deal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ed suppliers/compan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mech Engineer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MART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F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 universities (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4:27Z</dcterms:modified>
  <cp:revision>32</cp:revision>
  <dc:subject/>
  <dc:title>What component technologies  would fit in this system?</dc:title>
</cp:coreProperties>
</file>